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BA6-8125-4A33-AB85-2E9F0686C5F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spergers quote: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usan Stokes </a:t>
            </a: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Children with Asperger's Syndrome typically exhibit strengths in their visual processing skills, with significant weaknesses in their ability to process information auditor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E4A-3D90-45E1-A11E-CD6EE8E727F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E10-6C91-4530-B10A-88BE2D71443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D42-5F2B-476C-B317-DE048DFC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BD9-0870-4077-B82D-5590FE5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74A-BDAF-41B9-87B2-13997BD8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239-6865-49AD-B3F9-112F5EFD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6C4-ADC6-4F52-BF12-94EE1DE1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8A9-3626-452D-AAFF-A5C5CD4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852-3E7B-4889-8358-20B1311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6E5-7592-4337-A427-F63BBC8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EDA-976C-42AC-90E7-6B1A4E65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4F6-F734-4D28-9D32-CA760E5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45D-412F-4BC8-9345-BD5F70D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5D9-D99A-48D2-88B2-8E5505D2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C0A-61D2-4697-8064-A9965A7D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anguageperfect.co.nz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lear heart"/>
          <p:cNvPicPr/>
          <p:nvPr/>
        </p:nvPicPr>
        <p:blipFill>
          <a:blip r:embed="rId1"/>
          <a:srcRect l="32142" t="38573" r="20713" b="1857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-learning of Languages at Otaki College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1800" y="6143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Gillian Gordon TIC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hart 2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285840" y="5716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In-depth interview of 10 students (a cross section of survey group)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asking the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14240" y="1857240"/>
            <a:ext cx="7572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call and rank e-learning too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explain ‘how’ e-learning tools hel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assess own shift engagement &amp; mot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evaluate e-tools against traditiona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0040" y="47862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Pre and Post Hiragana Recognition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571760" y="56437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Informal  classroom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hart 6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977080" cy="352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3481920"/>
            <a:ext cx="874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pre-tested Hiragana recognition in term 2 week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udents did not do Hiragana recognition practice in term thre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re-tested Hiragana recognition after only 2-3 lessons using Language Perfect websi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8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337440" cy="4105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4941720"/>
            <a:ext cx="763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of 12 of NZ European students showed improvement in post-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 of 12 of NZ European showed no ch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 of 14, Maori/Pasifika (P.I.) students showed no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Maori/P.I. student improved, and 1 gained a slightly lower sc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hart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hart 9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Box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480" y="36360"/>
            <a:ext cx="9156960" cy="72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VTS_01_1_WMV V9.wmv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VTS_02_1_WMV V9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quadview"/>
          <p:cNvPicPr/>
          <p:nvPr/>
        </p:nvPicPr>
        <p:blipFill>
          <a:blip r:embed="rId1"/>
          <a:stretch/>
        </p:blipFill>
        <p:spPr>
          <a:xfrm>
            <a:off x="900000" y="333360"/>
            <a:ext cx="345780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ienceroom"/>
          <p:cNvPicPr/>
          <p:nvPr/>
        </p:nvPicPr>
        <p:blipFill>
          <a:blip r:embed="rId2"/>
          <a:stretch/>
        </p:blipFill>
        <p:spPr>
          <a:xfrm>
            <a:off x="4929120" y="357120"/>
            <a:ext cx="34578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kapahaka1"/>
          <p:cNvPicPr/>
          <p:nvPr/>
        </p:nvPicPr>
        <p:blipFill>
          <a:blip r:embed="rId3"/>
          <a:stretch/>
        </p:blipFill>
        <p:spPr>
          <a:xfrm>
            <a:off x="928800" y="3500280"/>
            <a:ext cx="3436920" cy="240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gamesteam1"/>
          <p:cNvPicPr/>
          <p:nvPr/>
        </p:nvPicPr>
        <p:blipFill>
          <a:blip r:embed="rId4"/>
          <a:stretch/>
        </p:blipFill>
        <p:spPr>
          <a:xfrm>
            <a:off x="4919760" y="3500280"/>
            <a:ext cx="3436920" cy="2406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642960" y="29289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taki College is a rural decile 4 year 7-13 composite school with 510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928800" y="60721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1% Maori students, 44% NZ European, 4% Pasifika, 16% As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% other European (MoE Ethnicity data, November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VTS_03_1_WMV V9.wmv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VTS_04_1_WMV V9.wmv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5716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oki appeal to both gend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 – A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 –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- Gra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 you can apprecia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tudent comments on e-tools us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56577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Aspergers student’s view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I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learn more with ICT styl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addictiv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verbal and visual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t the same time. It i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not just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 of those things you can only do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at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85840" y="421488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E-learning vs Tradi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I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learn more with a pen and pap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Computers are too much fun, so you won’t learn anything”, “you end up playing games on computer”, “you learn more with pen and paper,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ICT makes it more fu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85840" y="2643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Interactive website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fast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I did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hings I was interested i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not what the rest of the class was doing”, “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eaching ourselv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, “it’s self-correcting…you can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challenge yoursel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not being held back by others…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eacher doesn’t have tim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correct little things e.g. spelling et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1428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Video making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helped people put sentences together bett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to make sense. 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more fun so… more involve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, “…fun like doing a pla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5712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57120" y="614376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. Students perception as a barrier to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57120" y="542916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 Need to up-skill in use of 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57120" y="47149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Lack of contac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57120" y="185724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Workload:       Curriculum Leader responsibiliti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57120" y="1143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. Computer and internet acces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42148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Extra-curricular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286000" y="37861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Other PD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214720" y="34290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cheme re-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286000" y="307188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reparation for introduction of NZC from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2286000" y="264312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layground supervision &amp; Form teacher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214720" y="22860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umber of classes and range of levels ta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4287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428760" y="54291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mbination of traditional teaching methods and e-learning is best practice in 2LL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42908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learning occurs most effectively where physical ICT resourcing and access is adequ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28760" y="32148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college Maori, lower ability, male and students with learning difficulties, gained most in increased engagement and motivation through use of e-learning tools in the 2LL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28760" y="221472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ing students’ individual differences must inform effective teaching practice. (NZC 2007, p35) (Ellis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28760" y="121428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essential that teachers are adequately supported with time, specialist support, and incentive to up-skill in delivery of e-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85840" y="214200"/>
            <a:ext cx="85723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Where to from here?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I inte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85840" y="5929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im for a balanced approach using both Traditional &amp; E-Learn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85840" y="5286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search methods for improving outcomes for Maori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85840" y="42148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pply Sarah Pavy’s recommendations to increase motivation, retention and success for male students in 2LL (Pavy, 2006 Article: “Boys Learning Languages” The NZ Language Teacher-Vol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57120" y="357192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tinue to up-skill in use of E-Learn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85840" y="27147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rvey students to inform my teaching as part of a cyclical inquiry approach (NZC, 2007, p 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5840" y="1857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tegrate E-Learning into my teaching practice &amp; schemes at all levels (already  in progress for year 9 &amp; 10 in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85880" y="285840"/>
            <a:ext cx="75009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In my opinion</a:t>
            </a: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 the value of e-learning for 2LL acquisition cannot be over-emphasised!!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152360" y="3224160"/>
            <a:ext cx="721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57160" y="2869920"/>
            <a:ext cx="771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cta ICT Research article “What the research says about using iCT in modern foreign languages (MFL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partners.becta.org.uk/upload-/downloads/page_documents/research/wtrs_mfl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642960" y="642960"/>
            <a:ext cx="7929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han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nistry of Education for funding the ELL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taki College for releasing me to take part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eline Grant Advisor (and Catherine Hannagan) for their unflagging optimism and 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ellow Language Teachers from the Wellington region who participated in the ELL proje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y Family who have supported me through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art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3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571680" y="357120"/>
            <a:ext cx="79293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y Inquiry Topi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ing student engagement and motivation through the use of E-Lear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857160" y="20001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Why  motivation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2960" y="242892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Gardner says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“…motivation is a central elemen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long with language aptitude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in determining success in learning another languag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in the classroom setting” (Gardner, R.C. (200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43000" y="407196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New Zealand Curriculum, states: “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e-learning…ha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onsiderable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potential to suppor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 teaching approache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utlined…” (NZC, 2007 p3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14240" y="528624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nd “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e-learning may: assis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making of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connections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facilitate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shared learning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assist in the creation of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supportive learning environment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enhance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opportunities to learn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”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(NZC, 2007, p 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42960" y="350028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Why E-Learn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71680" y="25002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Why year 9 classes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14240" y="3429000"/>
            <a:ext cx="771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Data from large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42960" y="500040"/>
            <a:ext cx="7929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y Inquiry Topi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mproving student engagement and motivation through the use of E-Learning”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 flipH="1">
            <a:off x="3714120" y="52149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termination on m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85880" y="42861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ly challeng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eth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85840" y="6429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Pre- and Post-survey of students assessing shift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14240" y="1000080"/>
            <a:ext cx="7858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s towards learning Japanese (motivation &amp; eng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s towards 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ccess to Internet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1928880" y="2928960"/>
            <a:ext cx="5286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hart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15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5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0:48:54Z</dcterms:created>
  <dc:creator>-</dc:creator>
  <dc:description/>
  <dc:language>en-US</dc:language>
  <cp:lastModifiedBy>-</cp:lastModifiedBy>
  <dcterms:modified xsi:type="dcterms:W3CDTF">2009-12-10T03:20:21Z</dcterms:modified>
  <cp:revision>72</cp:revision>
  <dc:subject/>
  <dc:title>Slide 1</dc:title>
</cp:coreProperties>
</file>